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3DD-6000-48D6-8891-739A475D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044-00E6-44B7-BE73-2922CA4A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713-19A1-47B0-8FE3-5A6BA6B9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0A2-7138-4011-BFCE-9ECD973A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EBF-A85B-4D35-88F8-BB6D2631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164-2733-4936-B558-BFB2470F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449-D4CD-49F1-B7B1-EBDA4812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839-F304-4E82-AEF3-DDD0216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D1D-86A5-4804-9206-FC139F68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633-D363-4585-9A78-C4BD6D2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0B0-F772-4307-BDE1-BF9C243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3AA-EC34-4B54-AC15-5A878C9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C9C3-A63A-4060-B2A6-6394569E6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5 Ty sa za nás prihovára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a za nás prihovár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rahý Pane Ježiš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e deti požehnáv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jmi poctu najvyš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aj svätí anje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ujú meno t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sa skláň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u, česť Ti vzdá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áš vždy na hriešny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júcim rád odpúšť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nižuješ ľudí pyš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rných však v láske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š vzácny vier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pokojom nás blažíš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besiach, u Otca,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pravuješ miesto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 všetkými starosťa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e k tebe prichádz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 máme, nie sme s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ho Ducha chceš nám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ikom inom spásy ni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ba v tebe, drahý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svoj si za nás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me ti pieseň chvá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23:05Z</dcterms:modified>
  <cp:revision>32</cp:revision>
  <dc:subject/>
  <dc:title>Je veľký náš Pán, on slávy je Kráľ Nech do všetkých strán  spev vrúcnych znie chvál.</dc:title>
</cp:coreProperties>
</file>